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1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4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A7DB-C72A-49DC-9F68-B323E2C63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outh Americ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Continent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VMS Library 2008-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 Americ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tinent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MS Library 2008-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mpas - 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Just below Buenos A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verage temperature is 18°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ry season is summer (Decemb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Ombu is tree like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pas - Gras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below Buenos A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temperature is 18°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season is summer (Decemb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mbu is tree like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eciduous 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outhern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Middle East coast of Para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our distinct sea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all ▼             Winter ▼      Summer 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duous 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ern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 East coast of Para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distinct seas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l ▼             Winter ▼      Summer 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lf of the rain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world is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mazon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of the rain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world is i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azon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lue Poison Dart Fr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lue/G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Mac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 Poison Dart Fr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/G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avann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area between a rainforest            and dese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2.5 million sq kilometers                       {1/4 the size of Canada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ann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ea between a rainforest            and dese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 million sq kilometers                       {1/4 the size of Canada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lpine 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ndes stretch 4,000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north to the south, thus making it the longest mountain range in the world. In Chile, it rises to over 20,000 f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ine Mou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es stretch 4,000 m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north to the south, thus making it the longest mountain range in the world. In Chile, it rises to over 20,000 fe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Jagua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Piranha             Anaco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2-15 years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▄N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▄ 15-3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00-250 poun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▄N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▄ up to 300 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Vampire Bat   Galapagos Tortoise     Alpa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9 yea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▄ 100 yea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▄ 24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2 ounces                       ▄ 450 pound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▄130 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guar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Piranha             Anaco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▄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-15 years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▄N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▄ 15-3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-250 pound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▄N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▄ up to 300 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ampire Bat   Galapagos Tortoise     Alpa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▄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 year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▄ 100 year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▄ 24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▄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 ounces                       ▄ 450 pounds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▄130 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Unique Featur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Columbia supplies 90%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world production of Emeralds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riest place on earth is the             Atacama Desert in Argent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Venezuela has the highest                     uninterrupted water fall,                       Angel Falls at 3211 feet   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que Featu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umbia supplies 90%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production of Emeralds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est place on earth is the             Atacama Desert in Argen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ezuela has the highest                     uninterrupted water fall,                       Angel Falls at 3211 feet   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outh America’s Siz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4th largest 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6,879,000 sq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2% of the earth’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 America’s Siz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th largest conti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879,000 sq m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% of the earth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odie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dies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mazon Ri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4,300 mil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lows through 6 cou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No bridges cros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azon Riv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,300 miles 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s through 6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bridges cross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tacama Desert is the worlds’ dri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tagonian Desert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Largest in Americas/5th in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acama Desert is the worlds’ dri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agonian Desert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in Americas/5th in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6DC5-CDBC-4EC5-B292-798E7252F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59D7-A635-4FA1-8F75-1F39C16F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BC7D-04D9-4A89-804A-232F3A4B7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E754-EBB9-45D9-8D60-F4FA5B971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5B23-F384-4FD2-903D-D6CADE45E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36DC-1A6F-4937-88EB-5F6D3F5E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15A2-763E-4BA2-B00C-534F30C1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BAD8-7A71-42D8-9651-58E36F59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19E3-2A84-40AA-8478-38365770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CCDDD-69C4-4FC3-A3A3-5429117E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3641-8372-476F-B7BC-2E9E2DC4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02CD-0D41-4448-8295-C61683B0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8836-63C2-4C23-AAC9-FB40EC5E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9BE5-A207-4D56-B3E1-A5883DA3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24E1-9DC5-4AEC-B1B2-8D87DF13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F440-C044-4E5E-AC3B-7E174F575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8565-913A-43A8-B2A1-2CAAA1848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06C6-0F50-462B-BF55-5DD5E79D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269B-90CB-4801-B085-1B8DCCE9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2A11-B196-4609-A111-EE64B1AA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D35F-BF70-4CB4-86EB-2DA34884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44FC-4EF8-48DA-A8B6-D79A0B51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A896-121C-4B93-99B6-67006A84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C48F-F516-4967-8C65-149F22AA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7CC3-1E2B-42B0-89FA-1C6866D124E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587A-4ABA-4FB9-A2C2-BD72F2B4A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3732-A9FB-4D0D-944C-D84ED54AD49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ED8B-7F90-4DDC-B658-1CF795E81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affiliates.allposters.com/link/redirect.asp?aid=721525&amp;c=c&amp;search=1570&amp;catupdate=1570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quality-jewelry-stores.com/templates/Aqua/img/emeralds.jpg&amp;imgrefurl=http://www.quality-jewelry-stores.com/p-emerald-birthstone-may.html&amp;h=600&amp;w=800&amp;sz=62&amp;hl=en&amp;start=3&amp;um=1&amp;usg=__RnxdI3jmkdjUgdxaJ789XAytbVk=&amp;tbnid=pl8dTz3BPgu52M:&amp;tbnh=107&amp;tbnw=143&amp;prev=/images%3Fq%3Demeralds%26um%3D1%26hl%3Den%26safe%3Dactive%26sa%3D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robertvail.ifrance.com/Salto%2520Angel%252001.jpg&amp;imgrefurl=http://gwuniversity.blogspot.com/2006/09/choron-y-canaima-venezuela.html&amp;h=758&amp;w=956&amp;sz=32&amp;hl=en&amp;start=8&amp;um=1&amp;usg=__SAmRukV6kkl4OQMcz2XYjz68nYg=&amp;tbnid=Q8GJqPudm6qrXM:&amp;tbnh=117&amp;tbnw=148&amp;prev=/images%3Fq%3Dsalto%2Bdel%2Bangel%26um%3D1%26hl%3Den%26safe%3Dactive%26sa%3DX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/imgres?imgurl=http://www.rickrichards.com/ac/AmazonRiver1B.jpg&amp;imgrefurl=http://www.rickrichards.com/ac/ac3dFawcett.html&amp;h=480&amp;w=321&amp;sz=22&amp;hl=en&amp;start=17&amp;um=1&amp;usg=__RKApm1opl9NWB6cq-ld6uikra3A=&amp;tbnid=W7abQ_6dbLFT2M:&amp;tbnh=129&amp;tbnw=86&amp;prev=/images%3Fq%3Damazon%2Briver%26um%3D1%26hl%3Den%26safe%3Dactive%26sa%3DN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maps.google.com/maps?hl=en&amp;tab=wl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4876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South America</a:t>
            </a:r>
            <a:br>
              <a:rPr sz="4800"/>
            </a:b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The Continent S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029200" y="6087600"/>
            <a:ext cx="41148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VMS Library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Pampas - Grassl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Just below Buenos 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verage temperature is 18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Dry season is summer (Decem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       ◄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Ombu is tree like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ombu2"/>
          <p:cNvPicPr/>
          <p:nvPr/>
        </p:nvPicPr>
        <p:blipFill>
          <a:blip r:embed="rId1"/>
          <a:stretch/>
        </p:blipFill>
        <p:spPr>
          <a:xfrm>
            <a:off x="3048120" y="3048120"/>
            <a:ext cx="2562120" cy="1562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pampas_gauchos"/>
          <p:cNvPicPr/>
          <p:nvPr/>
        </p:nvPicPr>
        <p:blipFill>
          <a:blip r:embed="rId2"/>
          <a:stretch/>
        </p:blipFill>
        <p:spPr>
          <a:xfrm>
            <a:off x="5867280" y="4114800"/>
            <a:ext cx="25146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3ad0b"/>
                </a:solidFill>
                <a:latin typeface="Times New Roman"/>
              </a:rPr>
              <a:t>D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e</a:t>
            </a:r>
            <a:r>
              <a:rPr b="1" lang="en-US" sz="4800" spc="-1" strike="noStrike">
                <a:solidFill>
                  <a:srgbClr val="007000"/>
                </a:solidFill>
                <a:latin typeface="Times New Roman"/>
              </a:rPr>
              <a:t>c</a:t>
            </a:r>
            <a:r>
              <a:rPr b="1" lang="en-US" sz="4800" spc="-1" strike="noStrike">
                <a:solidFill>
                  <a:srgbClr val="0b7cc0"/>
                </a:solidFill>
                <a:latin typeface="Times New Roman"/>
              </a:rPr>
              <a:t>i</a:t>
            </a:r>
            <a:r>
              <a:rPr b="1" lang="en-US" sz="4800" spc="-1" strike="noStrike">
                <a:solidFill>
                  <a:srgbClr val="ccff33"/>
                </a:solidFill>
                <a:latin typeface="Times New Roman"/>
              </a:rPr>
              <a:t>d</a:t>
            </a:r>
            <a:r>
              <a:rPr b="1" lang="en-US" sz="4800" spc="-1" strike="noStrike">
                <a:solidFill>
                  <a:srgbClr val="ff9999"/>
                </a:solidFill>
                <a:latin typeface="Times New Roman"/>
              </a:rPr>
              <a:t>u</a:t>
            </a:r>
            <a:r>
              <a:rPr b="1" lang="en-US" sz="4800" spc="-1" strike="noStrike">
                <a:solidFill>
                  <a:srgbClr val="996633"/>
                </a:solidFill>
                <a:latin typeface="Times New Roman"/>
              </a:rPr>
              <a:t>o</a:t>
            </a:r>
            <a:r>
              <a:rPr b="1" lang="en-US" sz="4800" spc="-1" strike="noStrike">
                <a:solidFill>
                  <a:srgbClr val="660033"/>
                </a:solidFill>
                <a:latin typeface="Times New Roman"/>
              </a:rPr>
              <a:t>u</a:t>
            </a:r>
            <a:r>
              <a:rPr b="1" lang="en-US" sz="4800" spc="-1" strike="noStrike">
                <a:solidFill>
                  <a:srgbClr val="ff9900"/>
                </a:solidFill>
                <a:latin typeface="Times New Roman"/>
              </a:rPr>
              <a:t>s</a:t>
            </a: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 For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743200" y="152388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Southern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iddle East coast of Paragu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our distinct sea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all ▼             Winter ▼      Summer 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pictemperate"/>
          <p:cNvPicPr/>
          <p:nvPr/>
        </p:nvPicPr>
        <p:blipFill>
          <a:blip r:embed="rId1"/>
          <a:stretch/>
        </p:blipFill>
        <p:spPr>
          <a:xfrm>
            <a:off x="2514600" y="3733920"/>
            <a:ext cx="1905120" cy="1431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forest_winter"/>
          <p:cNvPicPr/>
          <p:nvPr/>
        </p:nvPicPr>
        <p:blipFill>
          <a:blip r:embed="rId2"/>
          <a:stretch/>
        </p:blipFill>
        <p:spPr>
          <a:xfrm>
            <a:off x="4800600" y="3733920"/>
            <a:ext cx="1752480" cy="1376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temperate forest"/>
          <p:cNvPicPr/>
          <p:nvPr/>
        </p:nvPicPr>
        <p:blipFill>
          <a:blip r:embed="rId3"/>
          <a:stretch/>
        </p:blipFill>
        <p:spPr>
          <a:xfrm>
            <a:off x="7086600" y="3657600"/>
            <a:ext cx="11174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Rain</a:t>
            </a: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for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Half of the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rain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o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in the world is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mazon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s_america-map2"/>
          <p:cNvPicPr/>
          <p:nvPr/>
        </p:nvPicPr>
        <p:blipFill>
          <a:blip r:embed="rId1"/>
          <a:stretch/>
        </p:blipFill>
        <p:spPr>
          <a:xfrm>
            <a:off x="5996160" y="1981080"/>
            <a:ext cx="314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Times New Roman"/>
              </a:rPr>
              <a:t>Rain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for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7115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                 ◄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Blue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Poison Dart Fr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◄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Blue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G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ac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9" descr="gal07"/>
          <p:cNvPicPr/>
          <p:nvPr/>
        </p:nvPicPr>
        <p:blipFill>
          <a:blip r:embed="rId1"/>
          <a:stretch/>
        </p:blipFill>
        <p:spPr>
          <a:xfrm>
            <a:off x="6553080" y="2514600"/>
            <a:ext cx="2210040" cy="1415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KCH%2520Sarawak%2520-%2520Bako%2520National%2520Park%2520-%2520Tropical%2520rainforest2%25201_b"/>
          <p:cNvPicPr/>
          <p:nvPr/>
        </p:nvPicPr>
        <p:blipFill>
          <a:blip r:embed="rId2"/>
          <a:stretch/>
        </p:blipFill>
        <p:spPr>
          <a:xfrm>
            <a:off x="5486400" y="4419720"/>
            <a:ext cx="2362320" cy="1542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blue_poison_dart_frog"/>
          <p:cNvPicPr/>
          <p:nvPr/>
        </p:nvPicPr>
        <p:blipFill>
          <a:blip r:embed="rId3"/>
          <a:stretch/>
        </p:blipFill>
        <p:spPr>
          <a:xfrm>
            <a:off x="2438280" y="1600200"/>
            <a:ext cx="2619360" cy="1876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Blue &amp; Gold Macaw"/>
          <p:cNvPicPr/>
          <p:nvPr/>
        </p:nvPicPr>
        <p:blipFill>
          <a:blip r:embed="rId4"/>
          <a:stretch/>
        </p:blipFill>
        <p:spPr>
          <a:xfrm>
            <a:off x="2819520" y="3581280"/>
            <a:ext cx="14191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Savanna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The area between a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rain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orest            and </a:t>
            </a: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dese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2.5 million sq kilometers                       {1/4 the size of Canad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savanna3_lg"/>
          <p:cNvPicPr/>
          <p:nvPr/>
        </p:nvPicPr>
        <p:blipFill>
          <a:blip r:embed="rId1"/>
          <a:stretch/>
        </p:blipFill>
        <p:spPr>
          <a:xfrm>
            <a:off x="3124080" y="3429000"/>
            <a:ext cx="355284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67341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Alpine Mountai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0" y="2133720"/>
            <a:ext cx="74674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sa_cont"/>
          <p:cNvPicPr/>
          <p:nvPr/>
        </p:nvPicPr>
        <p:blipFill>
          <a:blip r:embed="rId1"/>
          <a:stretch/>
        </p:blipFill>
        <p:spPr>
          <a:xfrm>
            <a:off x="6477120" y="1371600"/>
            <a:ext cx="2257200" cy="32004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2286000" y="1600200"/>
            <a:ext cx="4038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ndes stretch 4,000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rom the north to the south, thus making it the longest mountain range in the world. In Chile, it rises to over 20,000 f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Anim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560" y="380520"/>
            <a:ext cx="929628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Jaguar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Piranha             Anaco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12-15 years 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NA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15-30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100-250 pounds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NA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up to 300 po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Vampire Bat   Galapagos Tortoise     Alpa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9 years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100 years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24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2 ounces               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450 pounds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130 po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jaguar"/>
          <p:cNvPicPr/>
          <p:nvPr/>
        </p:nvPicPr>
        <p:blipFill>
          <a:blip r:embed="rId1"/>
          <a:stretch/>
        </p:blipFill>
        <p:spPr>
          <a:xfrm>
            <a:off x="533520" y="1371600"/>
            <a:ext cx="1657080" cy="1257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PIRANHA"/>
          <p:cNvPicPr/>
          <p:nvPr/>
        </p:nvPicPr>
        <p:blipFill>
          <a:blip r:embed="rId2"/>
          <a:stretch/>
        </p:blipFill>
        <p:spPr>
          <a:xfrm>
            <a:off x="2514600" y="1371600"/>
            <a:ext cx="1828800" cy="1276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anaconda"/>
          <p:cNvPicPr/>
          <p:nvPr/>
        </p:nvPicPr>
        <p:blipFill>
          <a:blip r:embed="rId3"/>
          <a:stretch/>
        </p:blipFill>
        <p:spPr>
          <a:xfrm>
            <a:off x="4724280" y="1371600"/>
            <a:ext cx="1876680" cy="1247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vampbat"/>
          <p:cNvPicPr/>
          <p:nvPr/>
        </p:nvPicPr>
        <p:blipFill>
          <a:blip r:embed="rId4"/>
          <a:stretch/>
        </p:blipFill>
        <p:spPr>
          <a:xfrm>
            <a:off x="2590920" y="4572000"/>
            <a:ext cx="1600200" cy="1085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galapagos"/>
          <p:cNvPicPr/>
          <p:nvPr/>
        </p:nvPicPr>
        <p:blipFill>
          <a:blip r:embed="rId5"/>
          <a:stretch/>
        </p:blipFill>
        <p:spPr>
          <a:xfrm>
            <a:off x="4724280" y="4572000"/>
            <a:ext cx="1905120" cy="1247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5" descr="alpaca"/>
          <p:cNvPicPr/>
          <p:nvPr/>
        </p:nvPicPr>
        <p:blipFill>
          <a:blip r:embed="rId6"/>
          <a:stretch/>
        </p:blipFill>
        <p:spPr>
          <a:xfrm>
            <a:off x="7543800" y="4572000"/>
            <a:ext cx="13510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4114800"/>
            <a:ext cx="9144000" cy="24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4192560" y="228600"/>
            <a:ext cx="375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Satellite 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In Affiliation with AllPosters.co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67080" y="1066680"/>
            <a:ext cx="37972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Longitude / Latitu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world image"/>
          <p:cNvPicPr/>
          <p:nvPr/>
        </p:nvPicPr>
        <p:blipFill>
          <a:blip r:embed="rId1"/>
          <a:stretch/>
        </p:blipFill>
        <p:spPr>
          <a:xfrm>
            <a:off x="2362320" y="1523880"/>
            <a:ext cx="6400800" cy="29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27440" y="83772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Unique Features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7920" y="13716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▄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lumbia supplies 90%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world production of Emeralds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▄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Driest place on earth is the             Atacama Desert in Argen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▄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Venezuela has the highest                     uninterrupted water fall,                       Angel Falls at 3211 fe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emeral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67480" y="137160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Salto%2520Angel%2520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10280" y="3809880"/>
            <a:ext cx="175284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South America’s Si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4038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0066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largest conti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6,879,000 sq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12% of the earth’s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south_america_pol98"/>
          <p:cNvPicPr/>
          <p:nvPr/>
        </p:nvPicPr>
        <p:blipFill>
          <a:blip r:embed="rId1"/>
          <a:stretch/>
        </p:blipFill>
        <p:spPr>
          <a:xfrm>
            <a:off x="4419720" y="990720"/>
            <a:ext cx="42847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487692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Bodies of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Wa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map"/>
          <p:cNvPicPr/>
          <p:nvPr/>
        </p:nvPicPr>
        <p:blipFill>
          <a:blip r:embed="rId1"/>
          <a:stretch/>
        </p:blipFill>
        <p:spPr>
          <a:xfrm>
            <a:off x="4419720" y="533520"/>
            <a:ext cx="4203720" cy="59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6" descr="amazon-river"/>
          <p:cNvPicPr/>
          <p:nvPr/>
        </p:nvPicPr>
        <p:blipFill>
          <a:blip r:embed="rId1"/>
          <a:stretch/>
        </p:blipFill>
        <p:spPr>
          <a:xfrm>
            <a:off x="2286000" y="4572000"/>
            <a:ext cx="2362320" cy="1574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amazon-river-map"/>
          <p:cNvPicPr/>
          <p:nvPr/>
        </p:nvPicPr>
        <p:blipFill>
          <a:blip r:embed="rId2"/>
          <a:stretch/>
        </p:blipFill>
        <p:spPr>
          <a:xfrm>
            <a:off x="4724280" y="914400"/>
            <a:ext cx="3791160" cy="32004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9"/>
          <p:cNvSpPr/>
          <p:nvPr/>
        </p:nvSpPr>
        <p:spPr>
          <a:xfrm>
            <a:off x="380880" y="24156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Amaz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66ff"/>
                </a:solidFill>
                <a:latin typeface="Times New Roman"/>
              </a:rPr>
              <a:t>Ri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2" descr="AmazonRiver1B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1219320"/>
            <a:ext cx="1726920" cy="25905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23"/>
          <p:cNvSpPr/>
          <p:nvPr/>
        </p:nvSpPr>
        <p:spPr>
          <a:xfrm>
            <a:off x="4799160" y="4572000"/>
            <a:ext cx="421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4,300 miles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Flows through 6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No bridges cros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7000"/>
                </a:solidFill>
                <a:uFillTx/>
                <a:latin typeface="Arial"/>
                <a:hlinkClick r:id="rId5"/>
              </a:rPr>
              <a:t>Satellite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733560" y="533160"/>
            <a:ext cx="41907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Clim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south_america_climate"/>
          <p:cNvPicPr/>
          <p:nvPr/>
        </p:nvPicPr>
        <p:blipFill>
          <a:blip r:embed="rId1"/>
          <a:stretch/>
        </p:blipFill>
        <p:spPr>
          <a:xfrm>
            <a:off x="3809880" y="1371600"/>
            <a:ext cx="43862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42840" y="7621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Deser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▄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Atacama Desert is the worlds’ dri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    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Patagonian Desert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Largest in Americas/5</a:t>
            </a:r>
            <a:r>
              <a:rPr b="1" lang="en-US" sz="2400" spc="-1" strike="noStrike" baseline="30000">
                <a:solidFill>
                  <a:srgbClr val="6633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in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atacama-desert"/>
          <p:cNvPicPr/>
          <p:nvPr/>
        </p:nvPicPr>
        <p:blipFill>
          <a:blip r:embed="rId1"/>
          <a:stretch/>
        </p:blipFill>
        <p:spPr>
          <a:xfrm>
            <a:off x="3124080" y="2057400"/>
            <a:ext cx="2133720" cy="1494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21"/>
          <p:cNvPicPr/>
          <p:nvPr/>
        </p:nvPicPr>
        <p:blipFill>
          <a:blip r:embed="rId2"/>
          <a:stretch/>
        </p:blipFill>
        <p:spPr>
          <a:xfrm>
            <a:off x="6095880" y="2819520"/>
            <a:ext cx="236232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6T17:37:41Z</dcterms:created>
  <dc:creator>Mr. Clutter</dc:creator>
  <dc:description/>
  <dc:language>en-US</dc:language>
  <cp:lastModifiedBy>RomaK</cp:lastModifiedBy>
  <dcterms:modified xsi:type="dcterms:W3CDTF">2015-09-04T09:45:21Z</dcterms:modified>
  <cp:revision>35</cp:revision>
  <dc:subject/>
  <dc:title>South America the continent</dc:title>
</cp:coreProperties>
</file>